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096-319E-4B77-96BC-74FA41E1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E82-1B17-4C62-B68A-1BBA53C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DDC-A7A4-42E7-8ADE-4DC0AA65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AE4-7753-4471-9A14-F88A577B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076-4FFC-40A5-9F72-86246A4F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8751-C6A8-4738-95B0-BE55FCF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D47-F309-461F-B295-768FDA96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66E-9AF2-431D-87E3-66514835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932-6CA5-480E-815C-EF40CC23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992-43EE-47C2-B117-C0811CD2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EA20-EA7B-4AC2-B0E9-7C37CE1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11F-0BA5-4192-A9D7-095702AD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549-9F5C-4A4D-ABEB-2B83C61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52B-8560-4C39-AB56-BC29F4C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247-EEF8-4210-B6D0-27427FD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3B7-6779-4C2C-BFB1-DA3074B4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0F9-0C8C-4B77-8905-B9A66D61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262F-50D1-40DF-A667-9CDDE748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4E26-F835-4C35-9DBA-14D65E4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AC84-8F48-448A-8670-9A747BD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91D1-C57F-47F2-9467-E42F9684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3409-F595-4C2A-9C51-EAB84D76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6B8-B036-4BDE-B74C-4B929DEA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EBE1-FAA9-4DC3-B45E-F7833DE5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7179-87F0-431F-8599-A92B65D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38A3-32C5-45AA-A1D7-37A7CC6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1329-2CCE-407E-AE4F-FC1A9BE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9AA7-7D22-451E-9B92-A3BF38F8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994A-1567-4452-8DE7-DC2FA528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EB31-6524-4E3C-B22A-2D35AD10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D0C0-818D-4666-9037-8EC8F5D3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B908-4766-43E2-8AE3-B7C0739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7BF9-B9BC-4EDA-8D0A-D5A8762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574-324B-44A0-9E5E-58CD8AA8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9BDC-CEF8-47A6-BD06-0789EFC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0665-7A32-4D00-BEFE-6F91EC6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2517-DD91-4D93-8BED-426B3514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99BA-C15A-4E84-B61A-4FAA1F1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91540-3ADC-4E8B-BA15-93696C2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F4F7-3285-4FE8-9601-CEC715E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5337-89A3-4C8D-A66B-6A27E999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75AE-59D5-48AD-ADF4-68293F2F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E291-FFE9-4F91-A9AD-A6ABCDB0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EE60-6160-4BC7-B741-11F088B5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6DE-DABB-42F4-9B45-BD25E7B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21A8-F384-40FB-AAC8-B63C04A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8023-B13E-46AB-B936-30A68A8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129D-CE1A-4E1E-898D-BF8B8DBB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D002-F78C-4277-B2A5-ED0A14F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536E7-4806-42BD-9809-F50E351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101D-C9B1-4F17-8800-30F6A9C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D3E1-5237-492A-901D-F0C94B3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2367-19C8-469C-80E9-F039772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6D95-778C-4CB4-B71E-1530459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107A-353B-461C-AC0C-F569AFC4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0A3-1275-43EE-AF50-9A2169D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1045-FE9B-4F2E-AE84-FF68C230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F41-B816-4740-82AB-3EA8ACC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C90-77D8-43C2-87D5-9B510D1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1AA-C1DC-44CF-B350-19DD9DB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955-9E58-4C1C-B5CA-4137AC79516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8F2-F763-411A-B771-34F77C01273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8D4-AD59-440F-9D4B-A4AE5A3C2F2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AFEF-4F16-4ADD-9C6F-C1995FF1963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A1F-070B-4393-A040-29EAEE0BD9A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5" descr=""/>
          <p:cNvPicPr/>
          <p:nvPr/>
        </p:nvPicPr>
        <p:blipFill>
          <a:blip r:embed="rId1"/>
          <a:stretch/>
        </p:blipFill>
        <p:spPr>
          <a:xfrm>
            <a:off x="2664000" y="1292400"/>
            <a:ext cx="6291000" cy="4108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7"/>
          <p:cNvSpPr/>
          <p:nvPr/>
        </p:nvSpPr>
        <p:spPr>
          <a:xfrm>
            <a:off x="3733920" y="4394160"/>
            <a:ext cx="914400" cy="1008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action between an acid and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roducts of a neutralization reaction are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pH scale gives a measure of the concentration of positive hydrogen ions in a solu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way of describing the acidic or basic strength of a solution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cidity of a solution can be expressed by using the pH sca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cale ranges from 0 to 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range from 0 to 6, with 0 being the strongest ac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range from 8 to 14, with 14 being the strongest b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re water, which is neither acid nor base, has a pH level of 7 or is neutr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0948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cators are substances that visibly show a change in the nature of a chemical syste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al indicator- an acid/base indicator that shows, by color, the pH of a subst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3049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6576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467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0"/>
          <p:cNvGrpSpPr/>
          <p:nvPr/>
        </p:nvGrpSpPr>
        <p:grpSpPr>
          <a:xfrm>
            <a:off x="4038480" y="2133720"/>
            <a:ext cx="519120" cy="1447560"/>
            <a:chOff x="4038480" y="2133720"/>
            <a:chExt cx="519120" cy="1447560"/>
          </a:xfrm>
        </p:grpSpPr>
        <p:sp>
          <p:nvSpPr>
            <p:cNvPr id="251" name="AutoShape 10"/>
            <p:cNvSpPr/>
            <p:nvPr/>
          </p:nvSpPr>
          <p:spPr>
            <a:xfrm>
              <a:off x="4038480" y="2133720"/>
              <a:ext cx="519120" cy="1447560"/>
            </a:xfrm>
            <a:prstGeom prst="flowChartMagneticDisk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4142160" y="27259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Group 31" descr=""/>
          <p:cNvPicPr/>
          <p:nvPr/>
        </p:nvPicPr>
        <p:blipFill>
          <a:blip r:embed="rId2"/>
          <a:stretch/>
        </p:blipFill>
        <p:spPr>
          <a:xfrm>
            <a:off x="455940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4" name="Group 32" descr=""/>
          <p:cNvPicPr/>
          <p:nvPr/>
        </p:nvPicPr>
        <p:blipFill>
          <a:blip r:embed="rId3"/>
          <a:stretch/>
        </p:blipFill>
        <p:spPr>
          <a:xfrm>
            <a:off x="5095800" y="2120760"/>
            <a:ext cx="579600" cy="14763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33" descr=""/>
          <p:cNvPicPr/>
          <p:nvPr/>
        </p:nvPicPr>
        <p:blipFill>
          <a:blip r:embed="rId4"/>
          <a:stretch/>
        </p:blipFill>
        <p:spPr>
          <a:xfrm>
            <a:off x="562608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56" name="Group 29" descr=""/>
          <p:cNvPicPr/>
          <p:nvPr/>
        </p:nvPicPr>
        <p:blipFill>
          <a:blip r:embed="rId5"/>
          <a:stretch/>
        </p:blipFill>
        <p:spPr>
          <a:xfrm>
            <a:off x="3492360" y="2120760"/>
            <a:ext cx="543240" cy="1476360"/>
          </a:xfrm>
          <a:prstGeom prst="rect">
            <a:avLst/>
          </a:prstGeom>
          <a:ln w="0">
            <a:noFill/>
          </a:ln>
        </p:spPr>
      </p:pic>
      <p:pic>
        <p:nvPicPr>
          <p:cNvPr id="257" name="Group 28" descr=""/>
          <p:cNvPicPr/>
          <p:nvPr/>
        </p:nvPicPr>
        <p:blipFill>
          <a:blip r:embed="rId6"/>
          <a:stretch/>
        </p:blipFill>
        <p:spPr>
          <a:xfrm>
            <a:off x="2975040" y="2120760"/>
            <a:ext cx="542880" cy="1476360"/>
          </a:xfrm>
          <a:prstGeom prst="rect">
            <a:avLst/>
          </a:prstGeom>
          <a:ln w="0">
            <a:noFill/>
          </a:ln>
        </p:spPr>
      </p:pic>
      <p:pic>
        <p:nvPicPr>
          <p:cNvPr id="258" name="Group 27" descr=""/>
          <p:cNvPicPr/>
          <p:nvPr/>
        </p:nvPicPr>
        <p:blipFill>
          <a:blip r:embed="rId7"/>
          <a:stretch/>
        </p:blipFill>
        <p:spPr>
          <a:xfrm>
            <a:off x="247500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26" descr=""/>
          <p:cNvPicPr/>
          <p:nvPr/>
        </p:nvPicPr>
        <p:blipFill>
          <a:blip r:embed="rId8"/>
          <a:stretch/>
        </p:blipFill>
        <p:spPr>
          <a:xfrm>
            <a:off x="1981080" y="2120760"/>
            <a:ext cx="54936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Group 33" descr=""/>
          <p:cNvPicPr/>
          <p:nvPr/>
        </p:nvPicPr>
        <p:blipFill>
          <a:blip r:embed="rId9"/>
          <a:stretch/>
        </p:blipFill>
        <p:spPr>
          <a:xfrm>
            <a:off x="623556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1" name="Group 33" descr=""/>
          <p:cNvPicPr/>
          <p:nvPr/>
        </p:nvPicPr>
        <p:blipFill>
          <a:blip r:embed="rId10"/>
          <a:stretch/>
        </p:blipFill>
        <p:spPr>
          <a:xfrm>
            <a:off x="6851520" y="2120760"/>
            <a:ext cx="635040" cy="1476360"/>
          </a:xfrm>
          <a:prstGeom prst="rect">
            <a:avLst/>
          </a:prstGeom>
          <a:ln w="0">
            <a:noFill/>
          </a:ln>
        </p:spPr>
      </p:pic>
      <p:pic>
        <p:nvPicPr>
          <p:cNvPr id="262" name="Group 33" descr=""/>
          <p:cNvPicPr/>
          <p:nvPr/>
        </p:nvPicPr>
        <p:blipFill>
          <a:blip r:embed="rId11"/>
          <a:stretch/>
        </p:blipFill>
        <p:spPr>
          <a:xfrm>
            <a:off x="7461360" y="2120760"/>
            <a:ext cx="6285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3"/>
          <p:cNvGrpSpPr/>
          <p:nvPr/>
        </p:nvGrpSpPr>
        <p:grpSpPr>
          <a:xfrm>
            <a:off x="8082000" y="2133720"/>
            <a:ext cx="604800" cy="1447560"/>
            <a:chOff x="8082000" y="2133720"/>
            <a:chExt cx="604800" cy="1447560"/>
          </a:xfrm>
        </p:grpSpPr>
        <p:sp>
          <p:nvSpPr>
            <p:cNvPr id="264" name="AutoShape 14"/>
            <p:cNvSpPr/>
            <p:nvPr/>
          </p:nvSpPr>
          <p:spPr>
            <a:xfrm>
              <a:off x="8082000" y="2133720"/>
              <a:ext cx="604800" cy="1447560"/>
            </a:xfrm>
            <a:prstGeom prst="flowChartMagneticDisk">
              <a:avLst/>
            </a:prstGeom>
            <a:solidFill>
              <a:srgbClr val="9842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8202600" y="272592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Group 26" descr=""/>
          <p:cNvPicPr/>
          <p:nvPr/>
        </p:nvPicPr>
        <p:blipFill>
          <a:blip r:embed="rId12"/>
          <a:stretch/>
        </p:blipFill>
        <p:spPr>
          <a:xfrm>
            <a:off x="1438200" y="2120760"/>
            <a:ext cx="5558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6"/>
          <p:cNvGrpSpPr/>
          <p:nvPr/>
        </p:nvGrpSpPr>
        <p:grpSpPr>
          <a:xfrm>
            <a:off x="914400" y="2133720"/>
            <a:ext cx="533520" cy="1447560"/>
            <a:chOff x="914400" y="2133720"/>
            <a:chExt cx="533520" cy="1447560"/>
          </a:xfrm>
        </p:grpSpPr>
        <p:sp>
          <p:nvSpPr>
            <p:cNvPr id="268" name="AutoShape 7"/>
            <p:cNvSpPr/>
            <p:nvPr/>
          </p:nvSpPr>
          <p:spPr>
            <a:xfrm>
              <a:off x="914400" y="2133720"/>
              <a:ext cx="533520" cy="1447560"/>
            </a:xfrm>
            <a:prstGeom prst="flowChartMagneticDisk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1020960" y="2725920"/>
              <a:ext cx="32004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Group 26" descr=""/>
          <p:cNvPicPr/>
          <p:nvPr/>
        </p:nvPicPr>
        <p:blipFill>
          <a:blip r:embed="rId13"/>
          <a:stretch/>
        </p:blipFill>
        <p:spPr>
          <a:xfrm>
            <a:off x="371520" y="2120760"/>
            <a:ext cx="555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blogs.scientificamerican.com/lab-rat/files/2012/09/628px-PH_scale.png"/>
          <p:cNvPicPr/>
          <p:nvPr/>
        </p:nvPicPr>
        <p:blipFill>
          <a:blip r:embed="rId1"/>
          <a:stretch/>
        </p:blipFill>
        <p:spPr>
          <a:xfrm>
            <a:off x="479520" y="0"/>
            <a:ext cx="71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987480" y="66600"/>
            <a:ext cx="631512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80520" y="137160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wo or more elements or compounds may combine to form a more complex compoun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X  →    AX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Mg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+ 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 →    2Mg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single compound breaks down into its component parts or simpler compound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X  →   A  +  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Ca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(g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35200" y="-36360"/>
            <a:ext cx="679104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-360" y="1295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ngle Replacement: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a more active element takes the place of another element in a compound and sets the less active one fre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sic form: A  +  BX  →    AX  +  B  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→    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(aq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 +  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(s)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ouble Replacemen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arts of two compounds switch places to form two new compounds. Two reactants yield two new produ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.  AB + XY ---&gt; AY + XB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. NaCl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--&gt;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+ HCl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ids are chemicals in which the positive ion is a hydrogen ato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Cl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mixed with water they produce a free hydrogen ion that combines with a water molecule to produce a hydronium 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+1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is a substance that releases hydrogen ions when it breaks apart in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560"/>
            <a:ext cx="7238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s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ct with metals to produce hydro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2HCl + 2N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2NaCl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es are substances in which the negative ion is an ion called hydroxide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OH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rebuchet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example;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OH, or KO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d to make soap, household cleaners, fertilizers, and explosives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el slipp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duct electric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Caustic. That is they eat away at certain substances and they are irritating or damaging to ski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alt is a compound formed from the positive metal ions of a base and a negative nonmetal ion of an aci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Cl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e the product of a reaction between an acid and a base, along with wa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form crystals when in solid for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ually have a higher hardness because of their ionic bond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 acid plus a base yields a salt and wat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O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Cl + 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NaCl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8:55:24Z</dcterms:created>
  <dc:creator>Pat and Tina Hayhurst</dc:creator>
  <dc:description/>
  <dc:language>en-US</dc:language>
  <cp:lastModifiedBy>Administrator</cp:lastModifiedBy>
  <dcterms:modified xsi:type="dcterms:W3CDTF">2014-04-22T17:01:28Z</dcterms:modified>
  <cp:revision>54</cp:revision>
  <dc:subject/>
  <dc:title>Acids, Bases, Salts and 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joewalker.com/teachers/hayhurst</vt:lpwstr>
  </property>
  <property fmtid="{D5CDD505-2E9C-101B-9397-08002B2CF9AE}" pid="9" name="LinkColor">
    <vt:r8>16711680</vt:r8>
  </property>
  <property fmtid="{D5CDD505-2E9C-101B-9397-08002B2CF9AE}" pid="10" name="MailAddress">
    <vt:lpwstr>Hayhurst1@aol.com</vt:lpwstr>
  </property>
  <property fmtid="{D5CDD505-2E9C-101B-9397-08002B2CF9AE}" pid="11" name="NavBtnPos">
    <vt:r8>4</vt:r8>
  </property>
  <property fmtid="{D5CDD505-2E9C-101B-9397-08002B2CF9AE}" pid="12" name="Other">
    <vt:lpwstr>Copyright (c) 1999-2000 Pat Hayhurst
Last Updated: 3/9/2000</vt:lpwstr>
  </property>
  <property fmtid="{D5CDD505-2E9C-101B-9397-08002B2CF9AE}" pid="13" name="OutputDir">
    <vt:lpwstr>C:\My Documents\Web Page at JW\fruitvale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255</vt:r8>
  </property>
</Properties>
</file>